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Click to move the slide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32CE-F724-4245-B8DC-44C9DAABA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BA05-5C87-492D-AE86-97C2A1AA4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6D16-C200-4205-8E45-AAF0384A9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CB9C-FD62-4CD1-B57C-E97130404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restore a single file, folder, or an entire drive’s worth of files/fol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DF875-096F-4AB3-840F-8F0EF2BB0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1845-E928-423C-A34F-26C266B64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ACE1-5E73-435B-82FA-5188EBDEB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choose to restore files to their original locations or to a different lo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252D-7699-41A9-80DD-65206D0DE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57D6-5C02-4611-B420-9C0541D6F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drive your operating system resides on fails or the computer fails for any reason, you can use a system image on the same machine (replacing the hardware that caused the failure) or another machine to get your users back up and running as quickly as possi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59EC-A934-44AA-B2BF-254C16D00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A32D-6D97-4B85-9E90-94F63D97C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4E5A-F052-4FA0-B5F9-6F15E5B60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3175-F7D0-467C-888B-8AF507D35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230A-FD1B-4304-9CC0-221E52C1E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EA25-76E2-4552-A815-92681BD7F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74C8-2F9A-46B1-BE23-DE65F5469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anufacturers also include recovery tools on a special partition or volume on the primary hard disk, and provide a graphical user interface to access the t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68D9-8C91-43CA-BA3B-6D25184A8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5A3A-E1EA-4EEE-BA66-B8B49CA42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0516-9231-48C2-B8D9-3AE059702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86D2-6BCE-4003-8C88-EAFB96AA9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B763-AAF6-478A-8084-BD3F4E6BA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15E9-A315-4AE3-9A37-707143698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B955-C398-4AF2-8D7B-2CBAF516E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F642-832E-420F-9A7E-4E587C681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0E55-73F2-4B6F-9DF1-252921B4C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A7C3-8119-4A00-906B-1025EBE17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74B4-E569-44BE-918B-4DA5F4712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DD29-F387-461D-8688-AED19703B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07B7-DF5A-452D-93FC-52414FEA4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6884-351D-4FCB-925C-04B187CDC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F695-076D-4C1F-B8B3-0B8A15219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E824-40D8-41BD-998D-80CD72298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30D2-3617-40AF-88E1-128F2E5EB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4858-3219-45A2-99E7-443E1F532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0AA8-D68E-42ED-9AF1-92F812C90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Use a system image you created earlier to recover your compu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Choose this option if you have a system image; this option re-installs your applications and system settings also. If you do not have a system image backup, choose the Reinstall Windows op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install Windows (requires Windows installation disc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This option sets the machine back to ground zero (before you installed any applications or created any folders/files). If you have a backup, you can reinstall Windows and then restore your files from a back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3ED4-C1D8-452C-BAA3-B287C334C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83E5-883E-4B78-AFD7-C8DBB18C3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18A4-4BAB-4137-8112-72A209081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A744-5C21-4AD1-9DC1-6DEA39CB6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8783-BED8-40C7-815C-80A093CCC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E2EB-12A1-4D04-96F9-0232409E7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7A83-584C-45B3-AE82-F7C3E9D13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0AB7-AD67-4721-9B0C-5CAE50B94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B5E4-A602-4EBD-B9D3-B5DFBBDB1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AE44-FE4A-4678-AA10-0E5343208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B8B7-2059-4A97-85E7-A4F12BD1E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7B2B-5FE4-4A55-AB60-C35684A9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748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1A41-4D7E-4976-8D31-171E8EB3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748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748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DF02-377C-4B72-AE12-01AF2F07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748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748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748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341E-EC35-4107-A23C-3840FDD5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2CEE-7B48-4310-AAA4-708B11D8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E176-C96F-48B2-A082-23BC1053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2501-8B3F-409F-8F78-39897884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27FD-23AC-48C5-B6F9-93281AD8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13AD-CD2E-4E99-A392-F0CB5FCEA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748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51EB-544F-451D-A7B2-78EB3CDD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748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7904-358A-4B78-B4F3-C7B46D69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748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A8DC-3C5A-4C40-A1F1-26F6AC0E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d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6046920"/>
            <a:chOff x="414360" y="426960"/>
            <a:chExt cx="8315280" cy="604692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604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5760" y="473040"/>
              <a:ext cx="8232480" cy="59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Straight Connector 7"/>
          <p:cNvSpPr/>
          <p:nvPr/>
        </p:nvSpPr>
        <p:spPr>
          <a:xfrm>
            <a:off x="533520" y="1447920"/>
            <a:ext cx="8076960" cy="14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6F0A-3643-42B7-83A8-B5A4C0831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ounded Rectangle 6"/>
          <p:cNvSpPr/>
          <p:nvPr/>
        </p:nvSpPr>
        <p:spPr>
          <a:xfrm>
            <a:off x="304920" y="1452600"/>
            <a:ext cx="8532720" cy="304308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Rounded Rectangle 8"/>
          <p:cNvGrpSpPr/>
          <p:nvPr/>
        </p:nvGrpSpPr>
        <p:grpSpPr>
          <a:xfrm>
            <a:off x="414360" y="1523880"/>
            <a:ext cx="8315280" cy="2901960"/>
            <a:chOff x="414360" y="1523880"/>
            <a:chExt cx="8315280" cy="2901960"/>
          </a:xfrm>
        </p:grpSpPr>
        <p:pic>
          <p:nvPicPr>
            <p:cNvPr id="55" name="Rounded Rectangle 8" descr=""/>
            <p:cNvPicPr/>
            <p:nvPr/>
          </p:nvPicPr>
          <p:blipFill>
            <a:blip r:embed="rId1"/>
            <a:stretch/>
          </p:blipFill>
          <p:spPr>
            <a:xfrm>
              <a:off x="414360" y="1523880"/>
              <a:ext cx="8315280" cy="290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36680" y="1546200"/>
              <a:ext cx="8270640" cy="28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225520"/>
            <a:ext cx="853452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cc"/>
                </a:solidFill>
                <a:latin typeface="Franklin Gothic Medium"/>
              </a:rPr>
              <a:t>Understanding Backup and</a:t>
            </a:r>
            <a:br>
              <a:rPr sz="3800"/>
            </a:br>
            <a:r>
              <a:rPr b="0" lang="en-US" sz="3800" spc="-1" strike="noStrike">
                <a:solidFill>
                  <a:srgbClr val="0000cc"/>
                </a:solidFill>
                <a:latin typeface="Franklin Gothic Medium"/>
              </a:rPr>
              <a:t>Recovery Methods</a:t>
            </a:r>
            <a:endParaRPr b="0" lang="en-US" sz="38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3124080"/>
            <a:ext cx="8183520" cy="10670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rm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Lesson 8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Backing Up Fil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77" name="Content Placeholder 2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25780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Backing Up Fil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79" name="Content Placeholder 2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1668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Restoring Fil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81" name="Content Placeholder 2" descr=""/>
          <p:cNvPicPr/>
          <p:nvPr/>
        </p:nvPicPr>
        <p:blipFill>
          <a:blip r:embed="rId1"/>
          <a:stretch/>
        </p:blipFill>
        <p:spPr>
          <a:xfrm>
            <a:off x="1905120" y="1684440"/>
            <a:ext cx="525780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Restoring Fil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83" name="Content Placeholder 2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Restoring Fil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85" name="Content Placeholder 2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Restoring Fil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87" name="Content Placeholder 2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25780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Previous Version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Each time a file is saved with changes, a previous version is created so you can roll back to an earlier version of a document if needed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Right-click the file in Windows Explorer and choose 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Restore previous version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e document will be restored to its original location.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System Imag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n image of an entire hard drive that includes all files needed to restore your operating system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By default, includes the Windows folder, all system settings, programs, and file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System Imag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ystem image storage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CD/DVD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Hard drive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USB drive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Network location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System Imag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wo methods for creating a system image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Creating a system image as part of the automatic Windows Backup process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Creating a system image manually, which involves running the backup wizard and selecting the drives you want to include in the image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Objectiv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71680" y="1752480"/>
          <a:ext cx="8001000" cy="2667240"/>
        </p:xfrm>
        <a:graphic>
          <a:graphicData uri="http://schemas.openxmlformats.org/drawingml/2006/table">
            <a:tbl>
              <a:tblPr/>
              <a:tblGrid>
                <a:gridCol w="3146400"/>
                <a:gridCol w="3063600"/>
                <a:gridCol w="1791000"/>
              </a:tblGrid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Objective Domain Matr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echnology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bjective Domain 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bjective Domain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Understanding Local, Online, and Automated Backup Metho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Understanding Local, Online, and Automated Backup Metho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Understanding Backup Op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Understanding Backup Op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Understanding System Rest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Understanding System Rest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.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Understanding Recovery Boot Op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Understanding Recovery Boot Op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.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Understanding Safe Mode Op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Understanding Safe Mode Op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  <a:ea typeface="Times New Roman"/>
                        </a:rPr>
                        <a:t>6.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Creating a System Image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97" name="Content Placeholder 2" descr=""/>
          <p:cNvPicPr/>
          <p:nvPr/>
        </p:nvPicPr>
        <p:blipFill>
          <a:blip r:embed="rId1"/>
          <a:stretch/>
        </p:blipFill>
        <p:spPr>
          <a:xfrm>
            <a:off x="1981080" y="1674720"/>
            <a:ext cx="525780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Creating a System Image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99" name="Content Placeholder 2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25780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Creating a System Image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01" name="Content Placeholder 2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25780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Creating a System Image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03" name="Content Placeholder 3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25780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Repairing a Windows Installation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ystem repair disc: A bootable disc you create in Windows 7 that contains Windows system recovery tool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Use the repair disc to attempt to start a failed computer, or to restore a computer from a system imag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reate a system repair disc or use the recovery tools on the Windows installation media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Create a System Repair Disc Command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681200" y="1752480"/>
            <a:ext cx="5943600" cy="44578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7"/>
          <p:cNvSpPr/>
          <p:nvPr/>
        </p:nvSpPr>
        <p:spPr>
          <a:xfrm>
            <a:off x="1743120" y="2733840"/>
            <a:ext cx="1305000" cy="277560"/>
          </a:xfrm>
          <a:prstGeom prst="rect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Restoring an Image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ree methods for restoring a system image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Restoring a system image using the Recovery applet in Control Panel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Restoring a system image using preinstalled recovery options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Restoring a system image using a Windows installation or system repair disc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The Recovery Applet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12" name="Content Placeholder 2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The Recovery Applet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14" name="Content Placeholder 3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8928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The Recovery Applet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16" name="Content Placeholder 3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197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File Backup and Restore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backup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is a properly secured copy of files and folders—and sometimes settings—usually saved in a compressed format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 backup is created so you can </a:t>
            </a: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restore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the files and settings in the event of data loss from a hard disk failure, accidental erasure or disk formatting, or natural events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The Recovery Applet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18" name="Content Placeholder 2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The Recovery Applet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20" name="Content Placeholder 3" descr=""/>
          <p:cNvPicPr/>
          <p:nvPr/>
        </p:nvPicPr>
        <p:blipFill>
          <a:blip r:embed="rId1"/>
          <a:stretch/>
        </p:blipFill>
        <p:spPr>
          <a:xfrm>
            <a:off x="2828880" y="3052800"/>
            <a:ext cx="348624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Preinstalled Recovery Option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22" name="Content Placeholder 5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0195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System Repair Disc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24" name="Content Placeholder 2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System Restore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Uses the System Protection feature to create restore point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Restore points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can be used to roll back your system to an earlier point in tim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Restore points are created automatically on a weekly basis and any time you make a change to your computer (such as installing a new application or device driver)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an create restore points manuall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Creating a System Restore Point Manually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28" name="Content Placeholder 2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905440" cy="44802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1752480" y="2897280"/>
            <a:ext cx="990720" cy="279360"/>
          </a:xfrm>
          <a:prstGeom prst="rect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Creating a System Restore Point Manually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31" name="Content Placeholder 2" descr=""/>
          <p:cNvPicPr/>
          <p:nvPr/>
        </p:nvPicPr>
        <p:blipFill>
          <a:blip r:embed="rId1"/>
          <a:stretch/>
        </p:blipFill>
        <p:spPr>
          <a:xfrm>
            <a:off x="2543040" y="1704960"/>
            <a:ext cx="4057920" cy="45147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4"/>
          <p:cNvSpPr/>
          <p:nvPr/>
        </p:nvSpPr>
        <p:spPr>
          <a:xfrm>
            <a:off x="5105520" y="4878360"/>
            <a:ext cx="1143000" cy="279360"/>
          </a:xfrm>
          <a:prstGeom prst="rect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Creating a System Restore Point Manually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34" name="Content Placeholder 2" descr=""/>
          <p:cNvPicPr/>
          <p:nvPr/>
        </p:nvPicPr>
        <p:blipFill>
          <a:blip r:embed="rId1"/>
          <a:stretch/>
        </p:blipFill>
        <p:spPr>
          <a:xfrm>
            <a:off x="2567160" y="1714680"/>
            <a:ext cx="4009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Restoring a System Using System Restore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36" name="Content Placeholder 2" descr=""/>
          <p:cNvPicPr/>
          <p:nvPr/>
        </p:nvPicPr>
        <p:blipFill>
          <a:blip r:embed="rId1"/>
          <a:stretch/>
        </p:blipFill>
        <p:spPr>
          <a:xfrm>
            <a:off x="1809720" y="1747800"/>
            <a:ext cx="55245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Restoring a System Using System Restore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38" name="Content Placeholder 2" descr=""/>
          <p:cNvPicPr/>
          <p:nvPr/>
        </p:nvPicPr>
        <p:blipFill>
          <a:blip r:embed="rId1"/>
          <a:stretch/>
        </p:blipFill>
        <p:spPr>
          <a:xfrm>
            <a:off x="1809720" y="1747800"/>
            <a:ext cx="55245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File Backup and Restore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indows Backup uses the Backup and Restore utility to back up and recover files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You can automatic backups by scheduling them to run daily, weekly, or monthly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You can store backups on CD/DVD, to another internal disk, to an external drive, or to a network drive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05600" indent="-2714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Only Windows 7 Professional, Ultimate, and Enterprise editions enable file backups to a network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Restoring a System Using System Restore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40" name="Content Placeholder 2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476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Advanced Recovery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wo primary options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Use a system image you created earlier to recover your computer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Reinstall Windows (requires Windows installation disc)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Recovery Boot Option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lso called advanced startup option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Provide tools to help you repair a broken Windows 7 installatio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Options are found on the Advanced Boot Options page, which you access when the computer first begins to boot by pressing the F8 key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Tip: Press and hold the </a:t>
            </a:r>
            <a:r>
              <a:rPr b="1" lang="en-US" sz="3000" spc="-1" strike="noStrike">
                <a:solidFill>
                  <a:srgbClr val="000000"/>
                </a:solidFill>
                <a:latin typeface="Franklin Gothic Book"/>
              </a:rPr>
              <a:t>F8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 key as soon as the computer begins to boot.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Recovery Boot Option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46" name="Content Placeholder 5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0195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Summary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 backup is a properly secured copy of files and folders—and sometimes settings—usually saved in a compressed format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00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 backup is created so you can restore the files and settings in the event of data loss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00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Windows Backup uses the built-in Backup and Restore utility to enable you to back up and recover files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spcBef>
                <a:spcPts val="700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 system image is an image of an entire hard drive that includes all files needed to restore your operating system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Summary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A system repair disc is a bootable disc you create in Windows 7 that contains Windows system recovery tools. You can use the repair disc to attempt to start a failed computer, or to restore a computer from a system image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You can use System Restore to roll back your system files and applications to a time when the PC was working properly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Summary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ystem Restore uses the System Protection feature to create restore points. Restore points can be used to roll back your system to an earlier point in time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Recovery boot options, also referred to as advanced startup options, provide you with tools to help you repair a broken Windows 7 installation. The options are found on the Advanced Boot Options menu, which you access when the computer first begins to boot by pressing the F8 key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Backing Up Fil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67" name="Content Placeholder 6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601992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Backing Up Fil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69" name="Content Placeholder 2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2578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Backing Up Fil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71" name="Content Placeholder 2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25780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Backing Up Fil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73" name="Content Placeholder 2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25780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Backing Up Fil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75" name="Content Placeholder 2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2578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14:18Z</dcterms:created>
  <dc:creator>Cat Skintik</dc:creator>
  <dc:description/>
  <dc:language>en-US</dc:language>
  <cp:lastModifiedBy>WileyService</cp:lastModifiedBy>
  <dcterms:modified xsi:type="dcterms:W3CDTF">2012-05-08T15:44:42Z</dcterms:modified>
  <cp:revision>309</cp:revision>
  <dc:subject/>
  <dc:title>Slide 1</dc:title>
</cp:coreProperties>
</file>